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3800" cy="370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D9465-9B11-41F4-B0C4-1BFC65AE3E0D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2995A-19B5-4BB3-BFDB-4609940F57F8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  <a:ea typeface="Arial"/>
              </a:rPr>
              <a:t>Osiguranje kvalitete često se smatra procesom kojim ustanove za strukovno obrazovanje mjere svoju izvedbu u odnosu na određeni niz kriterija. Obrazovna ustanova ili udovoljava kriterijima i bude akreditirana ili ne udovoljava kriterijima te ne dobiva akreditaciju. U čitavom procesu često se zaboravlja da je osiguranje kvalitete zapravo usluga koja se pruža zajednici a ne samo proces donošenja prosudbi. Vrlo je važno da osiguranje kvalitete bude usmjereno na zaštitu i poticanje polaznika a ne samo na ispunjavanje nekih kriterij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D828A-1DAA-416E-964B-828BA8F265B0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Arial"/>
                <a:ea typeface="Arial"/>
              </a:rPr>
              <a:t>Postoji šest ključnih argumenata koje bi trebalo uzeti u obzir prilikom izrade politika i procedura osiguranja kvalitete za određenu zemlju, regiju ili obrazovnu ustanovu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Arial"/>
                <a:ea typeface="Arial"/>
              </a:rPr>
              <a:t>Oni su: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1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Arial"/>
                <a:ea typeface="Arial"/>
              </a:rPr>
              <a:t>Organizacijska struktura koja stoji iza sustava osiguranja kvalitete mora odgovarati po veličini zemlji ili obrazovnoj ustanovi na koju će se primjenjivati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1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Arial"/>
                <a:ea typeface="Arial"/>
              </a:rPr>
              <a:t>Sustavi osiguranja kvalitete ne mogu funkcionirati sami za sebe. Ljudi su ti koji su potrebni da bi sustavi osiguranja kvalitete funkcionirali. Profesionalni ljudi mogu učiniti i loš sustav funkcionalnim a najbolji sustav osiguranja kvalitete će propasti ako ljudi koji su zaduženi za osiguranje kvalitete nisu kvalificirani, iskusni ili imaju negativan stav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1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Arial"/>
                <a:ea typeface="Arial"/>
              </a:rPr>
              <a:t>Uspjeh sustava osiguranja kvalitete ovisi o dobrom vodstvu na svim razinama a voditelji moraju imati podršku svih dionika u procesu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1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Arial"/>
                <a:ea typeface="Arial"/>
              </a:rPr>
              <a:t>Osiguranje kvalitete zahtijeva suradnju na svim razinama i nacionalnu politiku koja je usmjerena na poticanje i zaštitu polaznika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1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Arial"/>
                <a:ea typeface="Arial"/>
              </a:rPr>
              <a:t>Osiguranje kvalitete trebalo bi se voditi načelima centralizirane kontrole i decentralizirane izvedbe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1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Arial"/>
                <a:ea typeface="Arial"/>
              </a:rPr>
              <a:t>Sustav osiguranja kvalitete mora biti otvore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Arial"/>
                <a:ea typeface="Arial"/>
              </a:rPr>
              <a:t>--u kojem postoji povjerenje i suradnja između dionika na svim razinama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Arial"/>
                <a:ea typeface="Arial"/>
              </a:rPr>
              <a:t>--u kojem agencije zadužene za osiguranje kvalitete i obrazovne ustanove imaju dovoljno autonomije te ih se potiče na </a:t>
            </a:r>
            <a:r>
              <a:rPr b="0" lang="hr-HR" sz="1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hr-HR" sz="1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hr-HR" sz="1100" spc="-1" strike="noStrike">
                <a:solidFill>
                  <a:srgbClr val="000000"/>
                </a:solidFill>
                <a:latin typeface="Arial"/>
                <a:ea typeface="Arial"/>
              </a:rPr>
              <a:t>inovativnost; i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Arial"/>
                <a:ea typeface="Arial"/>
              </a:rPr>
              <a:t>--u kojem zakonski propisi podržavaju i promiču kvalitetu obrazovnog procesa 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7F1C4-5C61-49EC-AF8F-858A0CAE0037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AAC20-9348-4AC5-BC23-B696D7FEA3AF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B36C-E277-491E-BC4A-C3930A043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3AB1-8F6B-4245-A52C-06294F771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6E1E-8AAE-40BF-BE28-01F7E0016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91B7-FC60-4EBB-8D1D-7B5CD48B8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857A-5B3A-4395-8875-12BB5DA3F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1C9F-CCAB-43D4-8196-366F2C37A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9F58-0145-4FED-902B-2F330E42A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B70C-DFE2-4403-846B-86A3E2AD3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D7B1-FE5E-408F-AF4C-5857B8575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F6D3-2105-44D2-9701-8D28382CA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3411-09BC-4C08-A939-94430E3A5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B8C2-E2A2-4B51-9FE8-495CA2AEA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BD13A-3FBF-4296-A381-A171BF28B34C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00360" y="1928520"/>
            <a:ext cx="4214520" cy="435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1f497d"/>
                </a:solidFill>
                <a:latin typeface="Tahoma"/>
              </a:rPr>
              <a:t>Hotel </a:t>
            </a:r>
            <a:r>
              <a:rPr b="0" i="1" lang="hr-HR" sz="1600" spc="-1" strike="noStrike">
                <a:solidFill>
                  <a:srgbClr val="1f497d"/>
                </a:solidFill>
                <a:latin typeface="Tahoma"/>
              </a:rPr>
              <a:t>Regent Esplanade</a:t>
            </a:r>
            <a:r>
              <a:rPr b="0" i="1" lang="en-GB" sz="1600" spc="-1" strike="noStrike">
                <a:solidFill>
                  <a:srgbClr val="1f497d"/>
                </a:solidFill>
                <a:latin typeface="Tahoma"/>
              </a:rPr>
              <a:t>,</a:t>
            </a:r>
            <a:br>
              <a:rPr sz="1600"/>
            </a:br>
            <a:r>
              <a:rPr b="0" i="1" lang="en-GB" sz="1600" spc="-1" strike="noStrike">
                <a:solidFill>
                  <a:srgbClr val="1f497d"/>
                </a:solidFill>
                <a:latin typeface="Tahoma"/>
              </a:rPr>
              <a:t>Zagreb,</a:t>
            </a:r>
            <a:r>
              <a:rPr b="0" i="1" lang="hr-HR" sz="1600" spc="-1" strike="noStrike">
                <a:solidFill>
                  <a:srgbClr val="1f497d"/>
                </a:solidFill>
                <a:latin typeface="Tahoma"/>
              </a:rPr>
              <a:t> 29. – 30. lipnja </a:t>
            </a:r>
            <a:r>
              <a:rPr b="0" i="1" lang="en-GB" sz="1600" spc="-1" strike="noStrike">
                <a:solidFill>
                  <a:srgbClr val="1f497d"/>
                </a:solidFill>
                <a:latin typeface="Tahoma"/>
              </a:rPr>
              <a:t>201</a:t>
            </a:r>
            <a:r>
              <a:rPr b="0" i="1" lang="hr-HR" sz="1600" spc="-1" strike="noStrike">
                <a:solidFill>
                  <a:srgbClr val="1f497d"/>
                </a:solidFill>
                <a:latin typeface="Tahoma"/>
              </a:rPr>
              <a:t>1. godine</a:t>
            </a:r>
            <a:br>
              <a:rPr sz="2000"/>
            </a:br>
            <a:br>
              <a:rPr sz="2000"/>
            </a:br>
            <a:r>
              <a:rPr b="1" lang="hr-HR" sz="2000" spc="-1" strike="noStrike">
                <a:solidFill>
                  <a:srgbClr val="1f497d"/>
                </a:solidFill>
                <a:latin typeface="Tahoma"/>
              </a:rPr>
              <a:t>Razvoj osiguranja kvalitete u strukovnom obrazovanju i osposobljavanju </a:t>
            </a:r>
            <a:r>
              <a:rPr b="1" lang="en-GB" sz="2000" spc="-1" strike="noStrike">
                <a:solidFill>
                  <a:srgbClr val="1f497d"/>
                </a:solidFill>
                <a:latin typeface="Tahoma"/>
              </a:rPr>
              <a:t> </a:t>
            </a:r>
            <a:br>
              <a:rPr sz="2000"/>
            </a:br>
            <a:br>
              <a:rPr sz="2000"/>
            </a:br>
            <a:r>
              <a:rPr b="0" lang="hr-HR" sz="2000" spc="-1" strike="noStrike">
                <a:solidFill>
                  <a:srgbClr val="1f497d"/>
                </a:solidFill>
                <a:latin typeface="Tahoma"/>
              </a:rPr>
              <a:t>Uvodno obraćanje</a:t>
            </a:r>
            <a:br>
              <a:rPr sz="2000"/>
            </a:br>
            <a:r>
              <a:rPr b="0" lang="hr-HR" sz="2000" spc="-1" strike="noStrike">
                <a:solidFill>
                  <a:srgbClr val="1f497d"/>
                </a:solidFill>
                <a:latin typeface="Tahoma"/>
              </a:rPr>
              <a:t>Ian Hume, voditelj tima </a:t>
            </a:r>
            <a:br>
              <a:rPr sz="9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44680" y="2857320"/>
            <a:ext cx="2985840" cy="9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000" spc="-1" strike="noStrike">
                <a:solidFill>
                  <a:srgbClr val="1f497d"/>
                </a:solidFill>
                <a:latin typeface="Arial"/>
                <a:ea typeface="Arial"/>
              </a:rPr>
              <a:t>Partner u projektu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Subtitle 2"/>
          <p:cNvSpPr/>
          <p:nvPr/>
        </p:nvSpPr>
        <p:spPr>
          <a:xfrm>
            <a:off x="585720" y="5357880"/>
            <a:ext cx="29862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000" spc="-1" strike="noStrike">
                <a:solidFill>
                  <a:srgbClr val="1f497d"/>
                </a:solidFill>
                <a:latin typeface="Arial"/>
                <a:ea typeface="Arial"/>
              </a:rPr>
              <a:t>Projekt provodi WYG International Ltd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000" spc="-1" strike="noStrike">
                <a:solidFill>
                  <a:srgbClr val="1f497d"/>
                </a:solidFill>
                <a:latin typeface="Arial"/>
                <a:ea typeface="Arial"/>
              </a:rPr>
              <a:t>u suradnji s TribalHelm-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4"/>
          <p:cNvSpPr/>
          <p:nvPr/>
        </p:nvSpPr>
        <p:spPr>
          <a:xfrm>
            <a:off x="905040" y="1486080"/>
            <a:ext cx="756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1f497d"/>
                </a:solidFill>
                <a:latin typeface="Arial"/>
                <a:ea typeface="Arial"/>
              </a:rPr>
              <a:t>IPA Komponenta IV - Razvoj ljudskih potencijala - Program Europske Unije za Hrvatsk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5"/>
          <p:cNvSpPr/>
          <p:nvPr/>
        </p:nvSpPr>
        <p:spPr>
          <a:xfrm>
            <a:off x="495360" y="928800"/>
            <a:ext cx="1617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ffffff"/>
                </a:solidFill>
                <a:latin typeface="Arial"/>
                <a:ea typeface="Arial"/>
              </a:rPr>
              <a:t>Ovaj projekt financir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EUROPSKA UNIJ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7"/>
          <p:cNvSpPr/>
          <p:nvPr/>
        </p:nvSpPr>
        <p:spPr>
          <a:xfrm>
            <a:off x="249120" y="6500880"/>
            <a:ext cx="8544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100" spc="-1" strike="noStrike">
                <a:solidFill>
                  <a:srgbClr val="f2f2f2"/>
                </a:solidFill>
                <a:latin typeface="Arial"/>
                <a:ea typeface="Arial"/>
              </a:rPr>
              <a:t>Projektni ured: Agencija za strukovno obrazovanje</a:t>
            </a:r>
            <a:r>
              <a:rPr b="1" lang="en-US" sz="1100" spc="-1" strike="noStrike">
                <a:solidFill>
                  <a:srgbClr val="f2f2f2"/>
                </a:solidFill>
                <a:latin typeface="Arial"/>
                <a:ea typeface="Arial"/>
              </a:rPr>
              <a:t> i obrazovanje odraslih</a:t>
            </a:r>
            <a:r>
              <a:rPr b="1" lang="hr-HR" sz="1100" spc="-1" strike="noStrike">
                <a:solidFill>
                  <a:srgbClr val="f2f2f2"/>
                </a:solidFill>
                <a:latin typeface="Arial"/>
                <a:ea typeface="Arial"/>
              </a:rPr>
              <a:t>, Radnička 39, 10000 Zagreb, tel: +385 (0)1 627 4627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8" descr="logo_WYG.gif"/>
          <p:cNvPicPr/>
          <p:nvPr/>
        </p:nvPicPr>
        <p:blipFill>
          <a:blip r:embed="rId2"/>
          <a:stretch/>
        </p:blipFill>
        <p:spPr>
          <a:xfrm>
            <a:off x="598320" y="4214880"/>
            <a:ext cx="2462400" cy="639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" descr="TribalHELMLogo.gif"/>
          <p:cNvPicPr/>
          <p:nvPr/>
        </p:nvPicPr>
        <p:blipFill>
          <a:blip r:embed="rId3">
            <a:lum bright="30000"/>
          </a:blip>
          <a:stretch/>
        </p:blipFill>
        <p:spPr>
          <a:xfrm>
            <a:off x="642960" y="5000760"/>
            <a:ext cx="1646280" cy="274680"/>
          </a:xfrm>
          <a:prstGeom prst="rect">
            <a:avLst/>
          </a:prstGeom>
          <a:ln w="0">
            <a:noFill/>
          </a:ln>
        </p:spPr>
      </p:pic>
      <p:sp>
        <p:nvSpPr>
          <p:cNvPr id="56" name="Title 1"/>
          <p:cNvSpPr/>
          <p:nvPr/>
        </p:nvSpPr>
        <p:spPr>
          <a:xfrm>
            <a:off x="4500720" y="1928880"/>
            <a:ext cx="4214520" cy="43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9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ubtitle 2"/>
          <p:cNvSpPr/>
          <p:nvPr/>
        </p:nvSpPr>
        <p:spPr>
          <a:xfrm>
            <a:off x="1403280" y="1844640"/>
            <a:ext cx="2986200" cy="9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ubtitle 2"/>
          <p:cNvSpPr/>
          <p:nvPr/>
        </p:nvSpPr>
        <p:spPr>
          <a:xfrm>
            <a:off x="585720" y="5357880"/>
            <a:ext cx="29862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000" spc="-1" strike="noStrike">
                <a:solidFill>
                  <a:srgbClr val="1f497d"/>
                </a:solidFill>
                <a:latin typeface="Arial"/>
                <a:ea typeface="Arial"/>
              </a:rPr>
              <a:t>Projekt provodi WYG International Ltd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000" spc="-1" strike="noStrike">
                <a:solidFill>
                  <a:srgbClr val="1f497d"/>
                </a:solidFill>
                <a:latin typeface="Arial"/>
                <a:ea typeface="Arial"/>
              </a:rPr>
              <a:t>u suradnji s TribalHelm-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4"/>
          <p:cNvSpPr/>
          <p:nvPr/>
        </p:nvSpPr>
        <p:spPr>
          <a:xfrm>
            <a:off x="905040" y="1486080"/>
            <a:ext cx="756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1f497d"/>
                </a:solidFill>
                <a:latin typeface="Arial"/>
                <a:ea typeface="Arial"/>
              </a:rPr>
              <a:t>IPA Komponenta IV - Razvoj ljudskih potencijala - Program Europske Unije za Hrvatsk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5"/>
          <p:cNvSpPr/>
          <p:nvPr/>
        </p:nvSpPr>
        <p:spPr>
          <a:xfrm>
            <a:off x="495360" y="928800"/>
            <a:ext cx="1617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ffffff"/>
                </a:solidFill>
                <a:latin typeface="Arial"/>
                <a:ea typeface="Arial"/>
              </a:rPr>
              <a:t>Ovaj projekt financir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EUROPSKA UNIJ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8" descr="logo_WYG.gif"/>
          <p:cNvPicPr/>
          <p:nvPr/>
        </p:nvPicPr>
        <p:blipFill>
          <a:blip r:embed="rId4"/>
          <a:stretch/>
        </p:blipFill>
        <p:spPr>
          <a:xfrm>
            <a:off x="598320" y="4214880"/>
            <a:ext cx="2462400" cy="6397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9" descr="TribalHELMLogo.gif"/>
          <p:cNvPicPr/>
          <p:nvPr/>
        </p:nvPicPr>
        <p:blipFill>
          <a:blip r:embed="rId5">
            <a:lum bright="30000"/>
          </a:blip>
          <a:stretch/>
        </p:blipFill>
        <p:spPr>
          <a:xfrm>
            <a:off x="642960" y="5000760"/>
            <a:ext cx="1646280" cy="2746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8" descr=""/>
          <p:cNvPicPr/>
          <p:nvPr/>
        </p:nvPicPr>
        <p:blipFill>
          <a:blip r:embed="rId6"/>
          <a:stretch/>
        </p:blipFill>
        <p:spPr>
          <a:xfrm>
            <a:off x="684360" y="2924280"/>
            <a:ext cx="183816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95280" y="134100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Arial"/>
                <a:ea typeface="Arial"/>
              </a:rPr>
              <a:t>Razvoj osiguranja kvalitete u strukovnom obrazovanju i osposobljavanju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Arial"/>
                <a:ea typeface="Arial"/>
              </a:rPr>
              <a:t>Uvod u dosadašnje aktivnosti i postignuća projekta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Arial"/>
                <a:ea typeface="Arial"/>
              </a:rPr>
              <a:t>Komponenta 1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Arial"/>
              </a:rPr>
              <a:t>: Institucionalni razvoj i razvoj politika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Arial"/>
                <a:ea typeface="Arial"/>
              </a:rPr>
              <a:t>Komponenta 2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Arial"/>
              </a:rPr>
              <a:t>: Sveobuhvatno samovrednovanje na mikro-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Arial"/>
              </a:rPr>
              <a:t>razini (strukovne škole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Arial"/>
                <a:ea typeface="Arial"/>
              </a:rPr>
              <a:t>Komponenta 3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Arial"/>
              </a:rPr>
              <a:t>: Daljnja unapređenja Informacijskog sustava 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Arial"/>
              </a:rPr>
              <a:t>strukovnog obrazovanja i osposobljavanja 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Arial"/>
              </a:rPr>
              <a:t>(VETIS) i sustavna razmjena iskustava i 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Arial"/>
              </a:rPr>
              <a:t>informacija o osiguranju kvalitete u 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Arial"/>
              </a:rPr>
              <a:t>strukovnom obrazovanju i osposobljavanju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1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10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5280" y="134100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Arial"/>
                <a:ea typeface="Arial"/>
              </a:rPr>
              <a:t>Komponenta 1: Institucionalni razvoj i razvoj politika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242064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  <a:ea typeface="Arial"/>
              </a:rPr>
              <a:t>Rezultat 1.1: 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  <a:ea typeface="Arial"/>
              </a:rPr>
              <a:t>Na razini donositelja odluka utvrdili su se i raspravili elementi 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  <a:ea typeface="Arial"/>
              </a:rPr>
              <a:t>strategije koji se tiču najvažnijih pitanja osiguranja kvalitete u 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  <a:ea typeface="Arial"/>
              </a:rPr>
              <a:t>strukovnom obrazovanju i osposobljavanju a koji vode ka postupnom 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  <a:ea typeface="Arial"/>
              </a:rPr>
              <a:t>uvođenju različitih alata osiguranja kvalitet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  <a:ea typeface="Arial"/>
              </a:rPr>
              <a:t>Rezultat 1.2: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  <a:ea typeface="Arial"/>
              </a:rPr>
              <a:t>Zaposlenici ASOO-a osposobljeni su za provođenje relevantnih 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  <a:ea typeface="Arial"/>
              </a:rPr>
              <a:t>razvojnih zadataka vezanih uz osiguranje kvalitet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  <a:ea typeface="Arial"/>
              </a:rPr>
              <a:t>Rezultat 1.3: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  <a:ea typeface="Arial"/>
              </a:rPr>
              <a:t>Definirani su specifični elementi primjenijivih mehanizama i alata 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  <a:ea typeface="Arial"/>
              </a:rPr>
              <a:t>osiguranja kvalitete, uključujući i mehanizme suradnje s ključnim 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  <a:ea typeface="Arial"/>
              </a:rPr>
              <a:t>dionicima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  <a:ea typeface="Arial"/>
              </a:rPr>
              <a:t>Rezultat 1.4: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  <a:ea typeface="Arial"/>
              </a:rPr>
              <a:t>Provedena je sveobuhvatna nacionalna kampanja s ciljem 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  <a:ea typeface="Arial"/>
              </a:rPr>
              <a:t>osvješćivanja o važnosti/dodanoj vrijednosti instrumenata osiguranja 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  <a:ea typeface="Arial"/>
              </a:rPr>
              <a:t>kvalitete u strukovnom obrazovanju i osposobljavanju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1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1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10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95280" y="134100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Arial"/>
                <a:ea typeface="Arial"/>
              </a:rPr>
              <a:t>Komponenta 2: Sveobuhvatno samovrednovanje na mikro-razini (strukovne škole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242064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  <a:ea typeface="Arial"/>
              </a:rPr>
              <a:t>Rezultat 2.1: 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  <a:ea typeface="Arial"/>
              </a:rPr>
              <a:t>Utvrđeni su elementi sveobuhvatnog samovrednovanja strukovnih 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  <a:ea typeface="Arial"/>
              </a:rPr>
              <a:t>škola kako bi se osiguralo da škole pružaju kvalitetnu uslugu i da su 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  <a:ea typeface="Arial"/>
              </a:rPr>
              <a:t>konkurentne na svim razinama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  <a:ea typeface="Arial"/>
              </a:rPr>
              <a:t>Rezultat 2.2: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  <a:ea typeface="Arial"/>
              </a:rPr>
              <a:t>Odabrane strukovne škole educirane su i pružena im je adekvatna 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  <a:ea typeface="Arial"/>
              </a:rPr>
              <a:t>potpora u pilot-procesu provedbe mehanizama samovrednovanj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  <a:ea typeface="Arial"/>
              </a:rPr>
              <a:t>Rezultat 2.3: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  <a:ea typeface="Arial"/>
              </a:rPr>
              <a:t>Revidirana je metodologija za samovrednovanje strukovnih škola te 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  <a:ea typeface="Arial"/>
              </a:rPr>
              <a:t>je integrirana u širu primjenu sustava osiguranja kvalitete 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55640" y="1341360"/>
            <a:ext cx="77040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Arial"/>
                <a:ea typeface="Arial"/>
              </a:rPr>
              <a:t>Komponenta 3: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Daljnja unapređenja Informacijskog sustava strukovnog obrazovanja i osposobljavanja (VETIS) i sustavna razmjena iskustava i informacija o osiguranju kvalitete u strukovnom obrazovanju i osposobljavanju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826560" y="3068640"/>
            <a:ext cx="785988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  <a:ea typeface="Arial"/>
              </a:rPr>
              <a:t>Rezultat 3.1: 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  <a:ea typeface="Arial"/>
              </a:rPr>
              <a:t>Isprobani su modeli za sustavnu razmjenu iskustava i informacija 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  <a:ea typeface="Arial"/>
              </a:rPr>
              <a:t>s ciljem da postanu središnji dio čitavog procesa razvoja 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  <a:ea typeface="Arial"/>
              </a:rPr>
              <a:t>kvalitete u području inicijalnog sustava strukovnog obrazovanja i 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  <a:ea typeface="Arial"/>
              </a:rPr>
              <a:t>osposobljavanj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9T13:52:47Z</dcterms:created>
  <dc:creator>UID</dc:creator>
  <dc:description/>
  <dc:language>en-US</dc:language>
  <cp:lastModifiedBy>PC3</cp:lastModifiedBy>
  <cp:lastPrinted>2011-06-15T09:30:00Z</cp:lastPrinted>
  <dcterms:modified xsi:type="dcterms:W3CDTF">2011-07-01T07:21:57Z</dcterms:modified>
  <cp:revision>697</cp:revision>
  <dc:subject/>
  <dc:title>Slide 1</dc:title>
</cp:coreProperties>
</file>