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2847-1533-421B-9A97-C4DFC6DA58A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Ovdje objasnite da će radionica trajati tri i pol sata s time da će za vrijeme trajanja radionice biti pauza za ručak i pauze za kavu; tako da neće biti vremena za detalje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Naglasite da će objašnjenja moći pronaći u Priručniku za samovrednovanje...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Ovo je razvojni projekt te je rezultat tog razvoja okvir za samovrednovanje i mi ćemo im dati </a:t>
            </a:r>
            <a:r>
              <a:rPr b="0" lang="hr-HR" sz="1200" spc="-1" strike="noStrike" u="sng">
                <a:solidFill>
                  <a:srgbClr val="000000"/>
                </a:solidFill>
                <a:uFillTx/>
                <a:latin typeface="Calibri"/>
              </a:rPr>
              <a:t>osnovni uvod 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u taj okvi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Sve strukovne škole moraju početi provoditi samovrednovanje od rujna = Zakon o strukovnom obrazovanju, članak 1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6AB7-C632-4119-B7B5-80220260FAD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E2A6-82A7-48B3-9BD2-3A0B4082C32F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Upitnici mogu biti preskupi i mogu oduzimati puno vremena == fokus-grupe su dobra alternativ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Praćenja ne samo nastave i poučavanja; već i psihologa, izvannastavnih aktivnosti i drugih aktivnosti i usluga u škol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Rade li svi po istim postupcima i propisi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Statistički podaci većinom će se analizirati pomoću internetskog alata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0913-6BFF-4C4F-93E7-C115EFCDA666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Ovo nije nova baza podataka; ovo je alat koji će pomoći školama u njihovom procesu samovrednovanja; to neće biti dodatni posao: umjesto pisanja izvješća u „Word” dokumentu, škole će ga pisati na internetskom alat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Škole će proći edukaciju za korištenje tog alata; tako da ovdje dajemo samo informaciju o postojanju alat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Izvješće o samovrednovanju sastoji se od dva dijela: kvalitativnog i kvantitativnog dijel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Prioritetno područje se procjenjuje kroz kriterije iz područja kvalitete; zatim se daje ocjena svakom području kvalitete; alat će izraditi tablicu koja ističe prednosti i nedostatke; također može proizvesti tablicu u kojoj je prikazana usporedba s drugim školam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Za statističko izvješće, alat će izraditi komparativne grafikone na kojima se vidi škola u usporedbi s drugim školama i nacionalnim ciljevima; ovo trenutno nije dostpuno; ASOO će osigurati ovaj dio nakon što se provede nekoliko ciklusa samovrednovanja na nacionalnoj razini i nakon što se prikupi dovoljno podataka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E8A0-EDCD-4CBE-B354-1A0116FF868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Trijangulacija s tri izvora dokaza; osobito kada se donosi prosudba o prednostim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Dokumentirani = trebaju biti evidentirani na bilo kakav primjeren način kako bi bili prikladni za reviziju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Mjerljivi = statistički podaci su najbolji; treba izbjegavati nejasne izraze kao što su neki ili većina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Valjani = istiniti su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Pouzdani = bi li drugi vrednovatelj došao do istih zaključak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Dostatni = postoji li dovoljno dokaza za donošenje odluke ili prosudbe; npr. je li napravljena trijangulacija dokaza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Važeći = odnosi li se na godinu u kojoj je provedeno samovrednovanje; npr. u školskoj godini 2011./12. procjenjuje se izvedba iz školske godine 2010./2011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Konzistentni = jesu li dokazi konzistentni u određenom vremenskom periodu; je li razina uspješnosti izvedbe na sličnoj razini tijekom određenog vremenskog perioda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Autentični = pripadaju li dokazi stvarno ustanovi za strukovno obrazovanje [ili jesu li kopirali izvješće o samovrjednovanju od druge ustanove za strukovno obrazovanje]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Važno je naglasiti da dokazi mogu ukazati da je nešto prednost ili da je došlo do poboljšanja na razini škole (npr. 60% polaznika zadovoljno je poučavanjem a prošle godine taj je postotak iznosio 49%); ali, to i dalje može biti nedostatak na nacionalnoj razini (npr. nacionalni prosjek je 71% polaznika je zadovoljno poučavanje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021F-E112-4263-8F43-86D86AE4B0BD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Glavno pitanje je uvijek: kako će nešto utjecati na naše polazni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Bilo što što ima negativan utjecaj na naše polaznike smatra se slabošću i mora ići u plan unapređen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Velika unapređenja kao što su građevinski radovi (npr. novi toaleti ili prozori) idu u dugoročni razvojni pl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56DC-AA33-4E1E-8DD9-DD9E8F5A4D6E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Škole trebaju paziti kako ne bi bile preambiciozne kod izrade svojim planova unapređen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Svi nedostaci trebaju ići u plan unapređenja; ali, neće svi nedostaci postati prioritet kod provedbe unapređenja u sljedećoj školskoj godini; neki se nedostaci ići u dugoročni razvojni pl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Prioriteti moraju biti realistični i dostižn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Škole mogu pronaći više informacija u 7. poglavlju Vodiča za pisanje izvješća o samovrednovanju i 11. poglavlju Smjernica o samovrednovanj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BFC8-80A8-4BE4-8500-8B31C333797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Važno je da postoji vanjski postupak pomoću kojeg je potvrđuje izvješće o samovrednovanju i plan unapređenja: kako znamo da izvješće daje stvarnu sliku ško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Taj se proces trenutno razvija i ASOO će obavijestiti škole o postupcima u kasnijoj faz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1B04-C767-4B68-980A-2F60D3D569F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Na sutrašnjoj sesiji (30. lipnja) imat ćete mogućnost raspraviti i naglasiti pitanja koja vas muč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Nećemo se moći pozabaviti svim pitanjima na ovoj konferenciji; ali ćemo ih zabilježiti a kasnije ćemo vam dati detaljnije odgov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ASOO trenutno istražuje mogućnosti organiziranja </a:t>
            </a:r>
            <a:r>
              <a:rPr b="0" i="1" lang="hr-HR" sz="1200" spc="-1" strike="noStrike">
                <a:solidFill>
                  <a:srgbClr val="000000"/>
                </a:solidFill>
                <a:latin typeface="Calibri"/>
              </a:rPr>
              <a:t>„help deska”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; ako će to biti izvedivo, obavijestit ćemo vas čim bude dostupn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Vaša je domaća zadaća razmisliti o pitanjima i doći do svojih nekih zaključak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Sutra ujutro vaša će grupa pripremiti sažetak vaših pitanja te će ih predstaviti na plenarnom dijelu konferencij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0085-7508-4677-9C22-0A483315B85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Ovo su pitanja o kojima trebate razmisli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Važno je da nam ne dajete samo pritužbe; već da utvrdite rješenje i da date prijedloge za unapređenj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Sudionici će dobiti papirnatu verziju pitanja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9F8E-1EF7-4AC5-8CC9-1BBBC13857FD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Osiguranje kvalitete često se smatra procesom kojim ustanove za strukovno obrazovanje mjere svoju izvedbu u odnosu na određeni niz kriterija. Obrazovna ustanova ili udovoljava kriterijima i bude akreditirana ili ne udovoljava kriterijima te ne dobiva akreditaciju. U čitavom procesu često se zaboravlja da je osiguranje kvalitete zapravo usluga koja se pruža zajednici a ne samo proces donošenja prosudbi. Vrlo je važno da osiguranje kvalitete bude usmjereno na </a:t>
            </a:r>
            <a:r>
              <a:rPr b="0" lang="hr-HR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zaštitu i poticanje polaznika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a ne samo na ispunjavanje nekih kriterij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Polaznici su u samom središtu onoga što radim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ACE7-2F45-46AB-8643-EE2BBE88971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Prema Zakonu o strukovnom obrazovanju, članak 12., Agencija za strukovno obrazovanje i obrazovanje odraslih odgovorna je za postupak samovrednovanja i dokumentaciju povezanu s tim; ali, zapravo su strukovne škole te koje moraju provoditi samovrednovanje; i one su odgovorne za kvalitetu usluge koju pružaj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Samovrednovanje je godišnji ciklus i njime se procjenjuje izvedba i rezultati iz prethodne školske godine, npr. od rujna, 2011. do srpnja, 2012. škole analiziraju 2010./11. školsku godinu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Samovrednovanje se provodi prema kriterijima; u Hrvatskom okviru kriteriji su grupirani u područja kvalitete a ona su grupirana u šest prioritetnih područj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Sve strukovne škole samovrednuju se prema istim kritetijima – kriteriji su im referenc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Samovrednovanje je usmjereno na izvedbu škole i na to koliko je škola kompetentna u zadovoljavanju tih kriterij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Dokazi moraju pokazivati da su prosudbe koje je škola donijela toč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U budućnosti, strukovne škole moći će se uspoređivati s drugim strukovnim školama i s nacionalnim ciljevima (vidi internetski alat na </a:t>
            </a:r>
            <a:r>
              <a:rPr b="0" i="1" lang="hr-HR" sz="1200" spc="-1" strike="noStrike">
                <a:solidFill>
                  <a:srgbClr val="000000"/>
                </a:solidFill>
                <a:latin typeface="Calibri"/>
              </a:rPr>
              <a:t>slideu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1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Hrvatski okvir za samovrednovanje temelji se na ciklusu kvalitet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F8E4-DC4E-4EAF-A017-4DD4665AF73C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Kao što možemo vidjeti na sljedećem </a:t>
            </a:r>
            <a:r>
              <a:rPr b="0" i="1" lang="hr-HR" sz="1200" spc="-1" strike="noStrike">
                <a:solidFill>
                  <a:srgbClr val="000000"/>
                </a:solidFill>
                <a:latin typeface="Calibri"/>
              </a:rPr>
              <a:t>slideu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 br. 5, Europski okvir se također temelji na ciklusu kvalitete i ima 4 područja kvalitete – Hrvatski okvir ima 6 prioritetnih područj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7084-697A-4427-95A8-F100893A0BF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Europski okvir ima 4 područja kvalitete – Hrvatski okvir ima 6 prioritetnih – nalazi se na </a:t>
            </a:r>
            <a:r>
              <a:rPr b="0" i="1" lang="hr-HR" sz="1200" spc="-1" strike="noStrike">
                <a:solidFill>
                  <a:srgbClr val="000000"/>
                </a:solidFill>
                <a:latin typeface="Calibri"/>
              </a:rPr>
              <a:t>slideu 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br.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1657-9A16-417D-9E84-B315FF2D3221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U Hrvatskoj, kriteriji kvalitete su grupirani u područja kvalitete i u 6 prioritetnih područ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Hrvatski okvir za samovrednovanje nalazi se u Priručniku za samovrednovanje – primjerak radne verzije dokumenta dobit će danas a službenu objavljenu verziju u rujnu – postupci vezani uz vanjsko vrednovanje još su predmet rasprave i ASOO će utvrditi koji će biti primjereni procesi – škole će pravovremeno dobiti informacij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Škole mogu pronaći ključne pokazatelje uspješnosti u Priručniku za samovrednovanje dokument I.7 – dobit će internetski alat za samovrednovanje koji će im olakšati posao i umjesto njih odraditi sva računanja te im izraditi grafikone s usporedbama it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E8AE-10C7-4649-9D85-F43B2B851DE6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Ovo su samo od nekih aktivnosti koje smo proveli u sklopu komponente 2 za vrijeme projekta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posao je odradila radna skupina od 16 članova; savjetnici iz ASOO-a te strukovne škole koje su sudjelovale u pilot-projektu zajedno s njihovim vanjskim vrednovateljim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Tijekom ljeta mi ćemo procjeniti pilot-fazu i objaviti preporuke u brošuri o kvaliteti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10B2-8059-4F4F-A2C9-FA8BA759947B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Rezultat velikog truda na kraju je okvir s šest prioritetnih područja – temelje se na 8 područja koja su navedena u Zakonu o strukovnom obrazovanju, članak 11.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Školama koje su sudjelovale u pilot-projektu nije se sviđalo što ima toliko prioritetnih područja pa smo ih smanjili na šest, a s time su škole zadovoljn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AA2C-7F75-47CC-8356-0E68B8C79AB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Postavljanje referentnih mjerila – zahtijeva da se ustanove zapitaju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Koliko smo dobri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Koliko dobri možemo biti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Kako se možemo poboljšati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Kako možemo učiti od drugi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Postavljanje referentnih mjerila je proces učenja pomoću kojega se utvrđuju </a:t>
            </a:r>
            <a:r>
              <a:rPr b="0" lang="hr-HR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ajboli primjeri prakse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, koji postaju standard ili </a:t>
            </a:r>
            <a:r>
              <a:rPr b="0" lang="hr-HR" sz="1200" spc="-1" strike="noStrike">
                <a:solidFill>
                  <a:srgbClr val="ffff00"/>
                </a:solidFill>
                <a:latin typeface="Arial"/>
                <a:ea typeface="Arial"/>
              </a:rPr>
              <a:t>referenca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koja se želi postić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Osnovno pitanje je uvijek: kakav to utjecaj ima na iskustvo polaznika u školi – ako je utjecaj negativan tada govorimo o nedostatku koji treba ući u plan unapređenj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FA1B-D18B-4085-B161-9CEB5DDB2611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9113-3792-4484-B3CA-DD3FE513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F8C5-5968-4078-9452-F4226CC1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58AD-1DAB-41AF-B417-C6EFA3B15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3B82-4DB5-4084-9A75-7A7884CB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AD8F-DBB6-4250-95D9-4BE158B2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DE1D-5C07-4FDF-8B3A-E036C58F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DEAB-1BCD-406C-A8F2-3D6530B4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46FB-B8F4-4863-8529-751358A2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BE56-0C70-472C-9B00-2F676FEE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16BD-3F4D-4B13-8FFB-431EFCDD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E116-DC01-4CAD-B599-79D077F7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AA03-8A46-4685-9524-F5C148D9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2EE9-8120-46C2-A4E1-4BD0019898E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00360" y="1928520"/>
            <a:ext cx="421452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1f497d"/>
                </a:solidFill>
                <a:latin typeface="Tahoma"/>
              </a:rPr>
              <a:t>Hotel </a:t>
            </a:r>
            <a:r>
              <a:rPr b="0" i="1" lang="hr-HR" sz="1600" spc="-1" strike="noStrike">
                <a:solidFill>
                  <a:srgbClr val="1f497d"/>
                </a:solidFill>
                <a:latin typeface="Tahoma"/>
              </a:rPr>
              <a:t>Regent Esplanade</a:t>
            </a:r>
            <a:r>
              <a:rPr b="0" i="1" lang="en-GB" sz="1600" spc="-1" strike="noStrike">
                <a:solidFill>
                  <a:srgbClr val="1f497d"/>
                </a:solidFill>
                <a:latin typeface="Tahoma"/>
              </a:rPr>
              <a:t>,</a:t>
            </a:r>
            <a:br>
              <a:rPr sz="1600"/>
            </a:br>
            <a:r>
              <a:rPr b="0" i="1" lang="en-GB" sz="1600" spc="-1" strike="noStrike">
                <a:solidFill>
                  <a:srgbClr val="1f497d"/>
                </a:solidFill>
                <a:latin typeface="Tahoma"/>
              </a:rPr>
              <a:t>Zagreb,</a:t>
            </a:r>
            <a:r>
              <a:rPr b="0" i="1" lang="hr-HR" sz="1600" spc="-1" strike="noStrike">
                <a:solidFill>
                  <a:srgbClr val="1f497d"/>
                </a:solidFill>
                <a:latin typeface="Tahoma"/>
              </a:rPr>
              <a:t> 29. – 30. lipnja </a:t>
            </a:r>
            <a:r>
              <a:rPr b="0" i="1" lang="en-GB" sz="1600" spc="-1" strike="noStrike">
                <a:solidFill>
                  <a:srgbClr val="1f497d"/>
                </a:solidFill>
                <a:latin typeface="Tahoma"/>
              </a:rPr>
              <a:t>201</a:t>
            </a:r>
            <a:r>
              <a:rPr b="0" i="1" lang="hr-HR" sz="1600" spc="-1" strike="noStrike">
                <a:solidFill>
                  <a:srgbClr val="1f497d"/>
                </a:solidFill>
                <a:latin typeface="Tahoma"/>
              </a:rPr>
              <a:t>1. godine</a:t>
            </a:r>
            <a:br>
              <a:rPr sz="2000"/>
            </a:br>
            <a:br>
              <a:rPr sz="2000"/>
            </a:br>
            <a:r>
              <a:rPr b="1" lang="hr-HR" sz="2000" spc="-1" strike="noStrike">
                <a:solidFill>
                  <a:srgbClr val="1f497d"/>
                </a:solidFill>
                <a:latin typeface="Tahoma"/>
              </a:rPr>
              <a:t>Razvoj osiguranja kvalitete u strukovnom obrazovanju i osposobljavanju </a:t>
            </a:r>
            <a:r>
              <a:rPr b="1" lang="en-GB" sz="2000" spc="-1" strike="noStrike">
                <a:solidFill>
                  <a:srgbClr val="1f497d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r>
              <a:rPr b="0" lang="hr-HR" sz="2000" spc="-1" strike="noStrike">
                <a:solidFill>
                  <a:srgbClr val="1f497d"/>
                </a:solidFill>
                <a:latin typeface="Tahoma"/>
              </a:rPr>
              <a:t>Konferencija</a:t>
            </a:r>
            <a:br>
              <a:rPr sz="9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44680" y="2857320"/>
            <a:ext cx="298584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000" spc="-1" strike="noStrike">
                <a:solidFill>
                  <a:srgbClr val="1f497d"/>
                </a:solidFill>
                <a:latin typeface="Arial"/>
                <a:ea typeface="Arial"/>
              </a:rPr>
              <a:t>Partner u projekt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ubtitle 2"/>
          <p:cNvSpPr/>
          <p:nvPr/>
        </p:nvSpPr>
        <p:spPr>
          <a:xfrm>
            <a:off x="585720" y="5357880"/>
            <a:ext cx="29862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000" spc="-1" strike="noStrike">
                <a:solidFill>
                  <a:srgbClr val="1f497d"/>
                </a:solidFill>
                <a:latin typeface="Arial"/>
                <a:ea typeface="Arial"/>
              </a:rPr>
              <a:t>Projekt provodi WYG International Lt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000" spc="-1" strike="noStrike">
                <a:solidFill>
                  <a:srgbClr val="1f497d"/>
                </a:solidFill>
                <a:latin typeface="Arial"/>
                <a:ea typeface="Arial"/>
              </a:rPr>
              <a:t>u suradnji s TribalHelm-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905040" y="1486080"/>
            <a:ext cx="756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1f497d"/>
                </a:solidFill>
                <a:latin typeface="Arial"/>
                <a:ea typeface="Arial"/>
              </a:rPr>
              <a:t>IPA Komponenta IV - Razvoj ljudskih potencijala - Program Europske Unije za Hrvats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495360" y="928800"/>
            <a:ext cx="1617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  <a:ea typeface="Arial"/>
              </a:rPr>
              <a:t>Ovaj projekt financi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EUROPSKA UNIJ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249120" y="6500880"/>
            <a:ext cx="8544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f2f2f2"/>
                </a:solidFill>
                <a:latin typeface="Arial"/>
                <a:ea typeface="Arial"/>
              </a:rPr>
              <a:t>Projektni ured: Agencija za strukovno obrazovanje</a:t>
            </a:r>
            <a:r>
              <a:rPr b="1" lang="en-US" sz="1100" spc="-1" strike="noStrike">
                <a:solidFill>
                  <a:srgbClr val="f2f2f2"/>
                </a:solidFill>
                <a:latin typeface="Arial"/>
                <a:ea typeface="Arial"/>
              </a:rPr>
              <a:t> i obrazovanje odraslih</a:t>
            </a:r>
            <a:r>
              <a:rPr b="1" lang="hr-HR" sz="1100" spc="-1" strike="noStrike">
                <a:solidFill>
                  <a:srgbClr val="f2f2f2"/>
                </a:solidFill>
                <a:latin typeface="Arial"/>
                <a:ea typeface="Arial"/>
              </a:rPr>
              <a:t>, Radnička 39, 10000 Zagreb, tel: +385 (0)1 627 4627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logo_WYG.gif"/>
          <p:cNvPicPr/>
          <p:nvPr/>
        </p:nvPicPr>
        <p:blipFill>
          <a:blip r:embed="rId2"/>
          <a:stretch/>
        </p:blipFill>
        <p:spPr>
          <a:xfrm>
            <a:off x="598320" y="4214880"/>
            <a:ext cx="2462400" cy="639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TribalHELMLogo.gif"/>
          <p:cNvPicPr/>
          <p:nvPr/>
        </p:nvPicPr>
        <p:blipFill>
          <a:blip r:embed="rId3">
            <a:lum bright="30000"/>
          </a:blip>
          <a:stretch/>
        </p:blipFill>
        <p:spPr>
          <a:xfrm>
            <a:off x="642960" y="5000760"/>
            <a:ext cx="1646280" cy="274680"/>
          </a:xfrm>
          <a:prstGeom prst="rect">
            <a:avLst/>
          </a:prstGeom>
          <a:ln w="0">
            <a:noFill/>
          </a:ln>
        </p:spPr>
      </p:pic>
      <p:sp>
        <p:nvSpPr>
          <p:cNvPr id="56" name="Title 1"/>
          <p:cNvSpPr/>
          <p:nvPr/>
        </p:nvSpPr>
        <p:spPr>
          <a:xfrm>
            <a:off x="4500720" y="1928880"/>
            <a:ext cx="42145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9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ubtitle 2"/>
          <p:cNvSpPr/>
          <p:nvPr/>
        </p:nvSpPr>
        <p:spPr>
          <a:xfrm>
            <a:off x="1403280" y="1844640"/>
            <a:ext cx="29862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ubtitle 2"/>
          <p:cNvSpPr/>
          <p:nvPr/>
        </p:nvSpPr>
        <p:spPr>
          <a:xfrm>
            <a:off x="585720" y="5357880"/>
            <a:ext cx="29862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000" spc="-1" strike="noStrike">
                <a:solidFill>
                  <a:srgbClr val="1f497d"/>
                </a:solidFill>
                <a:latin typeface="Arial"/>
                <a:ea typeface="Arial"/>
              </a:rPr>
              <a:t>Projekt provodi WYG International Lt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000" spc="-1" strike="noStrike">
                <a:solidFill>
                  <a:srgbClr val="1f497d"/>
                </a:solidFill>
                <a:latin typeface="Arial"/>
                <a:ea typeface="Arial"/>
              </a:rPr>
              <a:t>u suradnji s TribalHelm-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905040" y="1486080"/>
            <a:ext cx="756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1f497d"/>
                </a:solidFill>
                <a:latin typeface="Arial"/>
                <a:ea typeface="Arial"/>
              </a:rPr>
              <a:t>IPA Komponenta IV - Razvoj ljudskih potencijala - Program Europske Unije za Hrvats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495360" y="928800"/>
            <a:ext cx="1617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  <a:ea typeface="Arial"/>
              </a:rPr>
              <a:t>Ovaj projekt financi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EUROPSKA UNIJ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logo_WYG.gif"/>
          <p:cNvPicPr/>
          <p:nvPr/>
        </p:nvPicPr>
        <p:blipFill>
          <a:blip r:embed="rId4"/>
          <a:stretch/>
        </p:blipFill>
        <p:spPr>
          <a:xfrm>
            <a:off x="598320" y="4214880"/>
            <a:ext cx="2462400" cy="639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TribalHELMLogo.gif"/>
          <p:cNvPicPr/>
          <p:nvPr/>
        </p:nvPicPr>
        <p:blipFill>
          <a:blip r:embed="rId5">
            <a:lum bright="30000"/>
          </a:blip>
          <a:stretch/>
        </p:blipFill>
        <p:spPr>
          <a:xfrm>
            <a:off x="642960" y="5000760"/>
            <a:ext cx="1646280" cy="274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"/>
          <p:cNvPicPr/>
          <p:nvPr/>
        </p:nvPicPr>
        <p:blipFill>
          <a:blip r:embed="rId6"/>
          <a:stretch/>
        </p:blipFill>
        <p:spPr>
          <a:xfrm>
            <a:off x="684360" y="2924280"/>
            <a:ext cx="18381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2139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hr-HR" sz="4000" spc="-1" strike="noStrike">
                <a:solidFill>
                  <a:srgbClr val="000000"/>
                </a:solidFill>
                <a:latin typeface="Arial"/>
                <a:ea typeface="Arial"/>
              </a:rPr>
              <a:t>10--SAMOVREDNOVANJ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071800"/>
            <a:ext cx="85788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Svrha samovrednovanj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tkriti trenutno stanje analizirajući rezultate od prethodne godine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usporediti s kriterijima, specifikacijama, standardima ili najboljim primjerima prak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donositi prosudbe o dokazim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utvrditi potencijal za unapređenj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drediti jesu li postignuti ciljevi i pod-ciljevi iz plana unapređenja od prethodnog ciklusa samovrednovanja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Rezultat samovrednovanj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rednosti i nedostaci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novi plan unapređenj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hr-HR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hr-HR" sz="4000" spc="-1" strike="noStrike">
                <a:solidFill>
                  <a:srgbClr val="000000"/>
                </a:solidFill>
                <a:latin typeface="Arial"/>
                <a:ea typeface="Arial"/>
              </a:rPr>
              <a:t>11--SAMOVREDNOVANJ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omoću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ovratnih informacij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pitnici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fokus-grupe, itd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rać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revizije postupak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usklađeno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analize dokumenata i statističkih podatak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4520" y="119664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12--Internetski alat za samovrednovanj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280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13--</a:t>
            </a:r>
            <a:r>
              <a:rPr b="1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DOKAZ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143080"/>
            <a:ext cx="403848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dokumentiran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mjerljiv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valjan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pouzdan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Content Placeholder 6"/>
          <p:cNvSpPr/>
          <p:nvPr/>
        </p:nvSpPr>
        <p:spPr>
          <a:xfrm>
            <a:off x="4648320" y="2143080"/>
            <a:ext cx="4038480" cy="39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dostat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važeć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konzistentn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autentič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6774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214200" y="1285920"/>
            <a:ext cx="892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15--PROCES PLANIRANJA UNAPREĐENJ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928880" y="1857240"/>
            <a:ext cx="49291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16--Svrha vanjskog vrednovanj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davanje neovisnog javnog mišljenja o kvaliteti učenja, postignutim standardima i učinkovitosti pri upravljanju resursi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omaganje u unapređivanju na način da se utvrde prednosti i nedostaci te istaknu primjeri dobre prak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informiranje vlade o kvaliteti i standardima uče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tvrđivanje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rocesa samovrednovanja i planiranja unapređenja ustanove za strukovno obrazovan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romicanje kulture samovrednovanja pružanjem smjernica i podrške, što vodi ka trajnom unapređivanju i održavanju vrlo visokih standarda i kvalit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14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3000"/>
            </a:br>
            <a:br>
              <a:rPr sz="3000"/>
            </a:br>
            <a:r>
              <a:rPr b="1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17--Provedba procesa samovrednovanja </a:t>
            </a:r>
            <a:br>
              <a:rPr sz="3000"/>
            </a:br>
            <a:r>
              <a:rPr b="1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Analiz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svaki član grupe pripremit će analizu za sljedeći dan o tome kako misli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da će provedba samovrednovanja funkcionirati u strukovnim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školama: što je poticajno, koje su poteškoće, tko ili što može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omoći u procesu provedb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30. lipnja, od 09.30 do 10.45h, 5 grupa će se sastati i </a:t>
            </a:r>
            <a:r>
              <a:rPr b="1" lang="hr-H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ediniti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svoje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analize s rezultatima koje su dobili i pitanjima: kako oni vide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rovedbu, poteškoće, resurse i kakvu pomoć trebaju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od 11.15h svaka grupa će imati 30 minuta za predstavljanje </a:t>
            </a:r>
            <a:r>
              <a:rPr b="1" lang="hr-H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raspravu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o analiz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8000" y="1125000"/>
            <a:ext cx="892800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18--Provedba procesa samovrednovan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8000" y="1844280"/>
            <a:ext cx="8856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Što je poticajno u načinu na koji je isplanirana provedba procesa samovrednovanja koji trebaju provoditi sve strukovne škol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02120" indent="-402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02120" indent="-402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Koje su poteškoće u načinu na koji je isplanirana provedba procesa samovrednovanja koji trebaju provoditi sve strukovne škole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02120" indent="-402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02120" indent="-402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Kako možemo spriječiti i savladati te poteškoć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02120" indent="-402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02120" indent="-402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Što i tko nam može pomoći u provedbi procesa samovrednovanja sa svim strukovnim školama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02120" indent="-40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1258200" y="1628640"/>
            <a:ext cx="618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2--SAMOVREDNOV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8215200" y="62150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3DB6-F7FC-45F5-AC79-4B17D65A3842}" type="slidenum">
              <a:rPr b="0" lang="hr-HR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971640" y="2708280"/>
            <a:ext cx="72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000000"/>
                </a:solidFill>
                <a:uFillTx/>
                <a:latin typeface="Arial"/>
              </a:rPr>
              <a:t>Samovrednovanj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, proces koji je pod kontrolom samih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stanova za strukovno obrazovanje i za koji su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ame odgovorne, može se definirati kao sustavan i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gresivan proces procjenjivanja u kojem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stanove prikupljaju i analiziraju 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dokaze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ako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i donijele 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prosudbe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odluke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 svojoj 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izvedb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odnosu na dogovorene 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kriterije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indikato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8143920" y="666756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98989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01760" y="1459080"/>
            <a:ext cx="77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3--Europski referentni okvir za osiguranje kvalitete u strukovnom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obrazovanju i osposobljavanju (EQARF-V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468360" y="23493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temelji se na sedam koncepata ili načel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488880" y="2820960"/>
            <a:ext cx="8064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ustanove za strukovno obrazovanje odgovorne su za kvalit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usluge koju pruža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488880" y="3336840"/>
            <a:ext cx="79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samovrednovanje na godišnjoj razini prema kritetijima kvalit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488880" y="374004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vrednovanje prema kriterij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488880" y="4110120"/>
            <a:ext cx="810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vrednovanje kompeten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488880" y="4494240"/>
            <a:ext cx="79707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dokaz pomoću kojeg se dokazuje kompetentnost i usklađenost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kriterij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488880" y="5100480"/>
            <a:ext cx="7777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postavljanje referentnih mjerila i uspoređivanje s nacionalnim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indikato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484200" y="5645160"/>
            <a:ext cx="7488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ciklus kvalite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planiraj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učini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provjeri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reagir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413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4--Ciklus kvalite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Group 17"/>
          <p:cNvGrpSpPr/>
          <p:nvPr/>
        </p:nvGrpSpPr>
        <p:grpSpPr>
          <a:xfrm>
            <a:off x="900000" y="2637000"/>
            <a:ext cx="7056720" cy="3429000"/>
            <a:chOff x="900000" y="2637000"/>
            <a:chExt cx="7056720" cy="3429000"/>
          </a:xfrm>
        </p:grpSpPr>
        <p:sp>
          <p:nvSpPr>
            <p:cNvPr id="79" name="AutoShape 18"/>
            <p:cNvSpPr/>
            <p:nvPr/>
          </p:nvSpPr>
          <p:spPr>
            <a:xfrm>
              <a:off x="900000" y="2637000"/>
              <a:ext cx="7056720" cy="34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9"/>
            <p:cNvSpPr/>
            <p:nvPr/>
          </p:nvSpPr>
          <p:spPr>
            <a:xfrm>
              <a:off x="3440160" y="2979720"/>
              <a:ext cx="190296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Arial"/>
                </a:rPr>
                <a:t>PLANIRA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20"/>
            <p:cNvSpPr/>
            <p:nvPr/>
          </p:nvSpPr>
          <p:spPr>
            <a:xfrm>
              <a:off x="3440160" y="4923000"/>
              <a:ext cx="207936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Arial"/>
                </a:rPr>
                <a:t>PROVJER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1"/>
            <p:cNvSpPr/>
            <p:nvPr/>
          </p:nvSpPr>
          <p:spPr>
            <a:xfrm>
              <a:off x="6137280" y="4008600"/>
              <a:ext cx="1536840" cy="57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Arial"/>
                </a:rPr>
                <a:t>UČIN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2"/>
            <p:cNvSpPr/>
            <p:nvPr/>
          </p:nvSpPr>
          <p:spPr>
            <a:xfrm>
              <a:off x="1041120" y="4008600"/>
              <a:ext cx="209700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600" spc="-1" strike="noStrike">
                  <a:solidFill>
                    <a:srgbClr val="000000"/>
                  </a:solidFill>
                  <a:latin typeface="Arial"/>
                </a:rPr>
                <a:t>REAGIRA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23"/>
            <p:cNvSpPr/>
            <p:nvPr/>
          </p:nvSpPr>
          <p:spPr>
            <a:xfrm rot="1674600">
              <a:off x="5557320" y="3436560"/>
              <a:ext cx="1270080" cy="228600"/>
            </a:xfrm>
            <a:prstGeom prst="rightArrow">
              <a:avLst>
                <a:gd name="adj1" fmla="val 50000"/>
                <a:gd name="adj2" fmla="val 13889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24"/>
            <p:cNvSpPr/>
            <p:nvPr/>
          </p:nvSpPr>
          <p:spPr>
            <a:xfrm rot="19578000">
              <a:off x="5416200" y="4808160"/>
              <a:ext cx="1128960" cy="228600"/>
            </a:xfrm>
            <a:prstGeom prst="leftArrow">
              <a:avLst>
                <a:gd name="adj1" fmla="val 50000"/>
                <a:gd name="adj2" fmla="val 12346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25"/>
            <p:cNvSpPr/>
            <p:nvPr/>
          </p:nvSpPr>
          <p:spPr>
            <a:xfrm rot="1274400">
              <a:off x="1887480" y="4922640"/>
              <a:ext cx="1411200" cy="228600"/>
            </a:xfrm>
            <a:prstGeom prst="leftArrow">
              <a:avLst>
                <a:gd name="adj1" fmla="val 50000"/>
                <a:gd name="adj2" fmla="val 1543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26"/>
            <p:cNvSpPr/>
            <p:nvPr/>
          </p:nvSpPr>
          <p:spPr>
            <a:xfrm rot="20433000">
              <a:off x="1722960" y="3458520"/>
              <a:ext cx="1552320" cy="210240"/>
            </a:xfrm>
            <a:prstGeom prst="rightArrow">
              <a:avLst>
                <a:gd name="adj1" fmla="val 50000"/>
                <a:gd name="adj2" fmla="val 18458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5--SUSTAV KVALITE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21844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Europski referentni okvir za osiguranje kvalitete - EQA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PLANIRA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- Svrha i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UČIN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- Provedb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PROVJER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hr-HR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- Vrednovanje i evaluacij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REAGIRA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- Povratna informacija i promjen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8215200" y="6591240"/>
            <a:ext cx="635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98989"/>
                </a:solidFill>
                <a:latin typeface="Arial"/>
                <a:ea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468360" y="13730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6--Europski referentni okvir za osiguranje kvalitete u strukovnom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obrazovanju i osposobljavanju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EQARF-VET)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ima tri elemen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468360" y="2436840"/>
            <a:ext cx="77040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kriteriji kvalitet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, koji se zasnivaju na ciklusu kvalitete i čija je svrha omogućiti sustavni pristup određivanju ciljeva strukovnog obrazovanja, zatim njihovu provedbu, vrednovanje i kontrolu na svim razinama pomoću određenih kriter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468360" y="3660840"/>
            <a:ext cx="7632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emlje članice trebaju odrediti modele za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samovrednovanj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ustanova za strukovno obrazovanje, unutarnje vrednovanje i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vanjsko vrednovanj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koje provode treće st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468360" y="4668840"/>
            <a:ext cx="748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lati za mjerenje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moću kojih se vrednuje i poboljšava sustav strukovnog obrazovanja i usluge strukovnog obrazovanja koje pružaju zemlje članice i relevantni dionici a sve kroz referentni skup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pokazatelja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valit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7--RAZVOJ OSIGURANJA KVALITETE U STRUKOVNOM OBRAZOVANJU I OSPOSOBLJAVANJU U HRVATSKOJ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830088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ožujak – svibanj, 2010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azvoj okvira za samovrednovanje; pilot-verzija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ovršena u kolovozu, 2010.: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svibanj, 2010. – svibanj, 2011: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2 radionice, 2 edukacije, 3 sastanka s ciljem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tandardizacije; i 5 ostalih sastanaka i radionica za razvoj okvira i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iručnika za samovrednovanj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rujan, 2010. – srpanj, 2011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ilot-proces u 24 strukovne škole i 11 vanjskih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rednovatelja testirali okvir i priručnik za samovrednovanje; osim 2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ormalna posjeta u svrhu vanjskog vrednovanja, svaki mjesec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rednovatelji su posjećivali pilot-škole kako bi im pružali podršku u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ijelom proces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srpanj, 2011. – rujan, 2011.: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naliza i vrednovanje 24 izvješća o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amovrednovanju; 48 izvješća o vanjskom vrednovanju; 144 obrasca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a praćenje pilot-procesa; 24 evaluacijska upitnika za strukovne škole;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1 evaluacijskih upitnika za vrednovatel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rujan 2011.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: provedba okvira za samovrednovanje u svim strukovnim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školama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studeni, 2011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.: završna konferencija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8--Okvir za kvalitetu u Hrvatskoj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Samovrednovanje prema 6 prioritetnih područja: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laniranje i programiranje r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oučavanje i podrška učenj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ostignuća polazni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Materijalni uvjeti i ljudski potencijali; profesionalni razvoj radni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Međuljudski odnosi; suradnja s ostalim dionicima; promicanje ustanove za strukovno obrazovan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Rukovođenje i upravljan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1042920" y="14288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  <a:ea typeface="Arial"/>
              </a:rPr>
              <a:t>9--Ciklus samovrednov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923760" y="2492280"/>
            <a:ext cx="729648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3:52:47Z</dcterms:created>
  <dc:creator>UID</dc:creator>
  <dc:description/>
  <dc:language>en-US</dc:language>
  <cp:lastModifiedBy>PC3</cp:lastModifiedBy>
  <cp:lastPrinted>2011-06-15T09:30:00Z</cp:lastPrinted>
  <dcterms:modified xsi:type="dcterms:W3CDTF">2011-07-01T07:21:40Z</dcterms:modified>
  <cp:revision>673</cp:revision>
  <dc:subject/>
  <dc:title>Slide 1</dc:title>
</cp:coreProperties>
</file>